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9612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956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02084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72036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02084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AF4E796-2DC6-43A1-86B2-616E9D2C4F6F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1DFBE4-8164-4469-AF69-4A869CBFAD11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50E22FC-11EC-4B5A-B116-A997BDFB0B7C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7B7BE6-4E98-4DAA-BD95-F2F4E08415B6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AC69A28-E2FD-4DF2-95B4-990EC6DB99BA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0360"/>
            <a:ext cx="30747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1A2CFE-D181-4D03-84CB-FDCBED10E369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6320" cy="38368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45720" y="4858920"/>
            <a:ext cx="520380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69586-C772-4CFF-A4CB-E7B6278A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90A6-D704-4E98-9CB2-F232E27B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449D-6C15-4D82-92CC-C18E978DA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3E6C-B596-4BD5-BEC9-DE2B8278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4F6B-C228-4854-82EC-5DE49BF0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476E-1969-4ACA-9AD9-22F443BD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BAB2-364B-41B5-B9A7-DFE79596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036F-1FF7-44AB-B78D-67A068E8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227C-11F0-433C-A454-303DB334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C5E9-D61F-465D-80E4-B4BB89D4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A0E7-905C-4EF1-B5B4-254BDEB3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B4003-AF25-4DD7-AE12-DA4951D9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42CA-8DA5-46A4-9C28-DC75D0D6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9D3E-E7FA-459F-864E-845E3496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C2AB-9798-40F2-98D4-93B977BE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151D-0CD2-4947-94C2-9737110D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C9FA-7341-414C-946A-066F87345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2F257-CCC2-4864-B587-61091DB9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50FDC-0A0D-4E93-9D6D-2495D8EA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136F6-4F32-4A28-BBCB-D32DF49C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F3A05-5471-4297-87E5-EF965780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48EA7-1D3F-459D-85D9-223BB949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31CC8-EA57-47D9-909D-F021479C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424B-3132-44EB-953A-3A342499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A0F5-489B-49DE-8621-5BDA6EEE94C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90E7-0741-4F0D-8387-6330E8F056E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ff"/>
                </a:solidFill>
                <a:latin typeface="Arial"/>
              </a:rPr>
              <a:t>Disciplina</a:t>
            </a:r>
            <a:br>
              <a:rPr sz="5000"/>
            </a:br>
            <a:r>
              <a:rPr b="0" lang="pt-BR" sz="5000" spc="-1" strike="noStrike">
                <a:solidFill>
                  <a:srgbClr val="ffffff"/>
                </a:solidFill>
                <a:latin typeface="Arial"/>
              </a:rPr>
              <a:t>Análise e Design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RUP"/>
          <p:cNvPicPr/>
          <p:nvPr/>
        </p:nvPicPr>
        <p:blipFill>
          <a:blip r:embed="rId1"/>
          <a:stretch/>
        </p:blipFill>
        <p:spPr>
          <a:xfrm>
            <a:off x="6804000" y="189000"/>
            <a:ext cx="215280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nálise e Design no R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UP"/>
          <p:cNvPicPr/>
          <p:nvPr/>
        </p:nvPicPr>
        <p:blipFill>
          <a:blip r:embed="rId1"/>
          <a:stretch/>
        </p:blipFill>
        <p:spPr>
          <a:xfrm>
            <a:off x="1332000" y="2276640"/>
            <a:ext cx="6419880" cy="3771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1332000" y="3681360"/>
            <a:ext cx="6480000" cy="4683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formar os requisitos em um design do sistema a ser cri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envolver uma arquitetura adequada e robusta para o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daptar o design para que corresponda ao ambiente de implementação, projetando-o para fins de desempen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6" descr="Análise e Design"/>
          <p:cNvPicPr/>
          <p:nvPr/>
        </p:nvPicPr>
        <p:blipFill>
          <a:blip r:embed="rId1"/>
          <a:stretch/>
        </p:blipFill>
        <p:spPr>
          <a:xfrm>
            <a:off x="3443400" y="1413000"/>
            <a:ext cx="3112920" cy="5359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ger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96920" y="5900760"/>
            <a:ext cx="287280" cy="289080"/>
          </a:xfrm>
          <a:prstGeom prst="rect">
            <a:avLst/>
          </a:prstGeom>
          <a:solidFill>
            <a:srgbClr val="ff33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66560" y="5815080"/>
            <a:ext cx="194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a 1ª iteração da Elabo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96920" y="6308640"/>
            <a:ext cx="287280" cy="289080"/>
          </a:xfrm>
          <a:prstGeom prst="rect">
            <a:avLst/>
          </a:prstGeom>
          <a:solidFill>
            <a:srgbClr val="ffff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18320" y="631332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A partir da Elabor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96920" y="5491080"/>
            <a:ext cx="287280" cy="289080"/>
          </a:xfrm>
          <a:prstGeom prst="rect">
            <a:avLst/>
          </a:prstGeom>
          <a:solidFill>
            <a:srgbClr val="00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6560" y="549288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Na Inici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5364000" y="1989000"/>
            <a:ext cx="720720" cy="863640"/>
          </a:xfrm>
          <a:prstGeom prst="rect">
            <a:avLst/>
          </a:prstGeom>
          <a:solidFill>
            <a:srgbClr val="0066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3419640" y="1989000"/>
            <a:ext cx="1296720" cy="719280"/>
          </a:xfrm>
          <a:prstGeom prst="rect">
            <a:avLst/>
          </a:prstGeom>
          <a:solidFill>
            <a:srgbClr val="ff33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419640" y="3357720"/>
            <a:ext cx="3168360" cy="2087280"/>
          </a:xfrm>
          <a:prstGeom prst="rect">
            <a:avLst/>
          </a:prstGeom>
          <a:solidFill>
            <a:srgbClr val="ffff00">
              <a:alpha val="1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sumo da aul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e curso prossegue no estudo do Processo Unificado da Rational (RUP), abordando a Análise e o Projeto Orientados a Objetos, enfatizando as técnicas e artefatos de modelagem em UML pertinentes ao ass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óximo Tópi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undamentos da Análise Orientada a Obje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01:49:11Z</dcterms:created>
  <dc:creator/>
  <dc:description/>
  <cp:keywords/>
  <dc:language>en-US</dc:language>
  <cp:lastModifiedBy>FMU</cp:lastModifiedBy>
  <dcterms:modified xsi:type="dcterms:W3CDTF">2008-03-11T22:41:53Z</dcterms:modified>
  <cp:revision>182</cp:revision>
  <dc:subject/>
  <dc:title>Análise e Projeto de Sistemas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6</vt:r8>
  </property>
  <property fmtid="{D5CDD505-2E9C-101B-9397-08002B2CF9AE}" pid="3" name="Version">
    <vt:r8>3</vt:r8>
  </property>
</Properties>
</file>